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8BB9-B68C-4170-BDF9-3C14DAE60F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52ED-09A9-433F-AB41-7913DE65D3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5E7-6E21-41EC-9F40-843CB404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6EF-3A42-4B6D-93C4-7EED8973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E69-0D01-4E2F-8E39-702CBBF1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CCF-B575-43CF-9578-81BB1560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0EBB-587E-49B7-B163-84C0E04D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32DC-9BA5-4F8D-9116-709C68BB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4146-2027-4DFF-BBF9-325EB0B8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0497-9895-45D4-8EA4-91D0D6C6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E9C8-C611-4C75-AEA3-BBA94F7C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8E59-B6A0-4009-919D-E1FB541D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8311-1EC8-4FE7-B6B0-397CC5EF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B67-E5EE-4814-88E3-4219FAFE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E3D5-B4FB-4844-8D36-EE373B4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534C-F593-4903-851D-4704B06C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4CBC-A03F-447C-99B3-7335C9E9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01AA-9106-48AF-AF39-00A6B83C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77E2-F324-44C0-8341-2FFAF2E3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BDBF-BCB3-41B4-9534-5ACCD721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8F395-A424-4D66-9EB5-AF65183C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40D9-9C50-43D4-BD30-28F795D5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A013E-B37D-49B4-BA35-2A8C6FCF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DF5E-2F0C-4014-9449-768C1B25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33E-AAE4-4DB5-AC4B-AFB28FDC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B29FD-B7F3-4E46-871E-ACD108E0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31C1-AA48-4D55-9902-5BBDC4AF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6CA06-3410-4AAE-8AC2-90304D78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2172-114F-4692-B54B-923962E6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BC6E-0587-4C27-8459-C95652AE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EF68E-1BEF-4015-ABD7-E50D9074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E035-A78A-4120-A51B-A1BFC214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C36-4121-4AB9-B3BD-283DDD61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44D-2F7D-4A72-81DA-BC4AA75B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C02-73A3-42E4-9A45-D7BCBD5C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7BB-3ADF-495C-9606-A8199D5D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43D-C13F-4C88-A3FE-506E0D07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2F6-7706-47FD-9FB6-169D7385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8" descr="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AD74-C083-4EE3-B3E3-E970D52B6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3F60-3D4D-47E5-9887-E6C9D0FD7F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13" descr="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12CB-B61C-4A6B-9094-82E8DD7D4F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Рисунок 13" descr="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97160" y="20160"/>
            <a:ext cx="687528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Проект бюджета</a:t>
            </a: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Калачинского муниципального района Омской области на 202</a:t>
            </a: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 год и на плановый период 202</a:t>
            </a: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6</a:t>
            </a: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 и 202</a:t>
            </a: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 го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5" descr="Калачинский (пакет красный) герб цветной с короной"/>
          <p:cNvPicPr/>
          <p:nvPr/>
        </p:nvPicPr>
        <p:blipFill>
          <a:blip r:embed="rId1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135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fin\Desktop\Пояснительная папка\1.ПРОГРАММЫ И ОШИБКИ\ПРЕЗЕНТАЦИЯ\2025\1017-Обложка.jpg"/>
          <p:cNvPicPr/>
          <p:nvPr/>
        </p:nvPicPr>
        <p:blipFill>
          <a:blip r:embed="rId2"/>
          <a:stretch/>
        </p:blipFill>
        <p:spPr>
          <a:xfrm>
            <a:off x="2627280" y="1778040"/>
            <a:ext cx="62168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8360" y="21960"/>
            <a:ext cx="7383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Структура расходов бюджета Калачинского муниципального района на 2025 год и на плановый период 2026 и 2027 годов в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349360" y="1562040"/>
          <a:ext cx="6759720" cy="4206960"/>
        </p:xfrm>
        <a:graphic>
          <a:graphicData uri="http://schemas.openxmlformats.org/drawingml/2006/table">
            <a:tbl>
              <a:tblPr/>
              <a:tblGrid>
                <a:gridCol w="3187800"/>
                <a:gridCol w="1201680"/>
                <a:gridCol w="1160640"/>
                <a:gridCol w="120960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5 г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7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его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 129 62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 062 83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 055 28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31 5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26 9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27 43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 81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 81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81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 7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 70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 70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3 45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2 92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3 8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14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63 1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15 9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04 6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ультура и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9 06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3 54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6 4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8 72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8 56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8 68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 43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 10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 80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6 50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3 2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3 2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словно утвержденны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2 05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3 72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175" name="Заголовок 1"/>
          <p:cNvSpPr/>
          <p:nvPr/>
        </p:nvSpPr>
        <p:spPr>
          <a:xfrm>
            <a:off x="2340000" y="5805360"/>
            <a:ext cx="6769080" cy="5749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юджет района имеет социальную направленность. В 2025 году 79,4% расходов бюджета района – расходы на социальную сфе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8" descr="Калачинский (пакет красный) герб цветной с короной"/>
          <p:cNvPicPr/>
          <p:nvPr/>
        </p:nvPicPr>
        <p:blipFill>
          <a:blip r:embed="rId1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177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68360" y="43920"/>
            <a:ext cx="738360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Расходы бюджета Калачинского муниципального района на социальную сферу на 2025 год и на плановый период 2026 и 2027 годов в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08000" y="1773360"/>
          <a:ext cx="7128000" cy="4700520"/>
        </p:xfrm>
        <a:graphic>
          <a:graphicData uri="http://schemas.openxmlformats.org/drawingml/2006/table">
            <a:tbl>
              <a:tblPr/>
              <a:tblGrid>
                <a:gridCol w="1152720"/>
                <a:gridCol w="934920"/>
                <a:gridCol w="936720"/>
                <a:gridCol w="1295280"/>
                <a:gridCol w="1008360"/>
                <a:gridCol w="1008000"/>
                <a:gridCol w="792000"/>
              </a:tblGrid>
              <a:tr h="334800"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7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ъем расходов, (тыс.руб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дельный вес в общем объеме расходов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ъем расходов без условно утвержденных (тыс.руб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дельный вес в общем объеме расходов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ъем расходов без условно утвержденных (тыс.руб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дельный вес в общем объеме расходов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то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 129 62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 062 83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 055 28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ИТОГО расходы на социальную сфер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96 38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43 16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24 56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82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63 1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15 95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04 6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82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9 06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3 54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6 4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471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8 72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8 56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8 6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662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Физическая 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 43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 10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 80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180" name="Рисунок 5" descr="Калачинский (пакет красный) герб цветной с короной"/>
          <p:cNvPicPr/>
          <p:nvPr/>
        </p:nvPicPr>
        <p:blipFill>
          <a:blip r:embed="rId1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181" name="Подзаголовок 2"/>
          <p:cNvSpPr/>
          <p:nvPr/>
        </p:nvSpPr>
        <p:spPr>
          <a:xfrm>
            <a:off x="-61272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40000" y="12600"/>
            <a:ext cx="7383600" cy="14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Программная структура расходов районного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бюджета на 2025 год и на плановый период 2026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и 2027 годов в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Рисунок 6" descr="Калачинский (пакет красный) герб цветной с короной"/>
          <p:cNvPicPr/>
          <p:nvPr/>
        </p:nvPicPr>
        <p:blipFill>
          <a:blip r:embed="rId1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184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одзаголовок 4"/>
          <p:cNvSpPr/>
          <p:nvPr/>
        </p:nvSpPr>
        <p:spPr>
          <a:xfrm>
            <a:off x="2411280" y="2063880"/>
            <a:ext cx="6661440" cy="3456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бюджете Калачинского муниципального района предусмотрены расходы на реализацию 3-х муниципальных програм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азвитие социально-культурной сферы Калачинского муниципального района на 2020 - 2025 годы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азвитие экономического потенциала Калачинского муниципального района на 2020 – 2025 годы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филактика правонарушений, предупреждение терроризма, экстримизма и обеспечение безопасности дорожного движения на территории Калачинского муниципального района на 2020 – 2025 годы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68360" y="0"/>
            <a:ext cx="738216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Программная структура расходов районного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бюджета на 2025 год и на плановый период 2026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и 2027 годов в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Содержимое 3" descr=""/>
          <p:cNvPicPr/>
          <p:nvPr/>
        </p:nvPicPr>
        <p:blipFill>
          <a:blip r:embed="rId1"/>
          <a:stretch/>
        </p:blipFill>
        <p:spPr>
          <a:xfrm>
            <a:off x="2360520" y="1454040"/>
            <a:ext cx="6769080" cy="4614840"/>
          </a:xfrm>
          <a:prstGeom prst="rect">
            <a:avLst/>
          </a:prstGeom>
          <a:ln w="0">
            <a:noFill/>
          </a:ln>
        </p:spPr>
      </p:pic>
      <p:grpSp>
        <p:nvGrpSpPr>
          <p:cNvPr id="188" name="Заголовок 3"/>
          <p:cNvGrpSpPr/>
          <p:nvPr/>
        </p:nvGrpSpPr>
        <p:grpSpPr>
          <a:xfrm>
            <a:off x="2475000" y="5657760"/>
            <a:ext cx="2316240" cy="328680"/>
            <a:chOff x="2475000" y="5657760"/>
            <a:chExt cx="2316240" cy="328680"/>
          </a:xfrm>
        </p:grpSpPr>
        <p:pic>
          <p:nvPicPr>
            <p:cNvPr id="189" name="Заголовок 3" descr=""/>
            <p:cNvPicPr/>
            <p:nvPr/>
          </p:nvPicPr>
          <p:blipFill>
            <a:blip r:embed="rId2"/>
            <a:stretch/>
          </p:blipFill>
          <p:spPr>
            <a:xfrm>
              <a:off x="2475000" y="5657760"/>
              <a:ext cx="231624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484360" y="5662440"/>
              <a:ext cx="23036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7638"/>
                  </a:solidFill>
                  <a:latin typeface="Calibri"/>
                </a:rPr>
                <a:t>Программа №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Рисунок 7" descr="Калачинский (пакет красный) герб цветной с короной"/>
          <p:cNvPicPr/>
          <p:nvPr/>
        </p:nvPicPr>
        <p:blipFill>
          <a:blip r:embed="rId3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192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10920" y="404640"/>
            <a:ext cx="60483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Дорожные фонды в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771640" y="1622520"/>
          <a:ext cx="5977080" cy="1877760"/>
        </p:xfrm>
        <a:graphic>
          <a:graphicData uri="http://schemas.openxmlformats.org/drawingml/2006/table">
            <a:tbl>
              <a:tblPr/>
              <a:tblGrid>
                <a:gridCol w="2521080"/>
                <a:gridCol w="1150920"/>
                <a:gridCol w="1152720"/>
                <a:gridCol w="1152360"/>
              </a:tblGrid>
              <a:tr h="353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г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30,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3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4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борка сне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8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8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98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рейд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ынос травы на обочин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монт до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195" name="Объект 4" descr=""/>
          <p:cNvPicPr/>
          <p:nvPr/>
        </p:nvPicPr>
        <p:blipFill>
          <a:blip r:embed="rId1"/>
          <a:stretch/>
        </p:blipFill>
        <p:spPr>
          <a:xfrm>
            <a:off x="2009880" y="4011480"/>
            <a:ext cx="7134120" cy="3197520"/>
          </a:xfrm>
          <a:prstGeom prst="rect">
            <a:avLst/>
          </a:prstGeom>
          <a:ln w="0">
            <a:noFill/>
          </a:ln>
        </p:spPr>
      </p:pic>
      <p:sp>
        <p:nvSpPr>
          <p:cNvPr id="196" name="Заголовок 3"/>
          <p:cNvSpPr/>
          <p:nvPr/>
        </p:nvSpPr>
        <p:spPr>
          <a:xfrm>
            <a:off x="2843280" y="3500280"/>
            <a:ext cx="136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202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5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Заголовок 3"/>
          <p:cNvSpPr/>
          <p:nvPr/>
        </p:nvSpPr>
        <p:spPr>
          <a:xfrm>
            <a:off x="5148360" y="3492360"/>
            <a:ext cx="136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202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6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Заголовок 3"/>
          <p:cNvSpPr/>
          <p:nvPr/>
        </p:nvSpPr>
        <p:spPr>
          <a:xfrm>
            <a:off x="7380360" y="3500280"/>
            <a:ext cx="136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202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Объект 4" descr=""/>
          <p:cNvPicPr/>
          <p:nvPr/>
        </p:nvPicPr>
        <p:blipFill>
          <a:blip r:embed="rId2"/>
          <a:stretch/>
        </p:blipFill>
        <p:spPr>
          <a:xfrm>
            <a:off x="4284720" y="4011480"/>
            <a:ext cx="7132680" cy="3198960"/>
          </a:xfrm>
          <a:prstGeom prst="rect">
            <a:avLst/>
          </a:prstGeom>
          <a:ln w="0">
            <a:noFill/>
          </a:ln>
        </p:spPr>
      </p:pic>
      <p:pic>
        <p:nvPicPr>
          <p:cNvPr id="200" name="Объект 4" descr=""/>
          <p:cNvPicPr/>
          <p:nvPr/>
        </p:nvPicPr>
        <p:blipFill>
          <a:blip r:embed="rId3"/>
          <a:stretch/>
        </p:blipFill>
        <p:spPr>
          <a:xfrm>
            <a:off x="6516720" y="4011480"/>
            <a:ext cx="7132680" cy="31989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2" descr="Калачинский (пакет красный) герб цветной с короной"/>
          <p:cNvPicPr/>
          <p:nvPr/>
        </p:nvPicPr>
        <p:blipFill>
          <a:blip r:embed="rId4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202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40000" y="43920"/>
            <a:ext cx="738360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На обеспечение непредвиденных расходов предусмотрено формирование Резервного фонда Администрации Калачинского муниципального района в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Объект 1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6551640" cy="40320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5" descr="Калачинский (пакет красный) герб цветной с короной"/>
          <p:cNvPicPr/>
          <p:nvPr/>
        </p:nvPicPr>
        <p:blipFill>
          <a:blip r:embed="rId2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206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7383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Расходы на охрану окружающей среды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в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484000" y="1700280"/>
            <a:ext cx="6551640" cy="3024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27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 формирование ассигнований на охрану окружающей среды направляются следующие доходные источн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лата за негативное воздействие на окружающую сре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Штрафы, установленные КоАП РФ за административные правонарушения в области охраны окружающей среды и природополь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латежи по искам о возмещении вреда, причинённого окружающей сре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Объект 1" descr=""/>
          <p:cNvPicPr/>
          <p:nvPr/>
        </p:nvPicPr>
        <p:blipFill>
          <a:blip r:embed="rId1"/>
          <a:stretch/>
        </p:blipFill>
        <p:spPr>
          <a:xfrm>
            <a:off x="2433600" y="4746600"/>
            <a:ext cx="6647040" cy="20462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Калачинский (пакет красный) герб цветной с короной"/>
          <p:cNvPicPr/>
          <p:nvPr/>
        </p:nvPicPr>
        <p:blipFill>
          <a:blip r:embed="rId2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211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75279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Дотации на выравнивание бюджетной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обеспеченности бюджетам сельских поселений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на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-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484360" y="1628640"/>
          <a:ext cx="6551640" cy="4989600"/>
        </p:xfrm>
        <a:graphic>
          <a:graphicData uri="http://schemas.openxmlformats.org/drawingml/2006/table">
            <a:tbl>
              <a:tblPr/>
              <a:tblGrid>
                <a:gridCol w="593640"/>
                <a:gridCol w="2502000"/>
                <a:gridCol w="1295640"/>
                <a:gridCol w="1081080"/>
                <a:gridCol w="10792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ликорус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кресен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хов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баньев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иков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гушин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лов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кин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пин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рочин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арицынское сель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ачинское городское пос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6 51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214" name="Рисунок 5" descr="Калачинский (пакет красный) герб цветной с короной"/>
          <p:cNvPicPr/>
          <p:nvPr/>
        </p:nvPicPr>
        <p:blipFill>
          <a:blip r:embed="rId1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215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92360" y="333360"/>
            <a:ext cx="54007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6" descr="C:\Users\fin\Downloads\ПРЕЗЕНТАЦИЯ\1.jpg"/>
          <p:cNvPicPr/>
          <p:nvPr/>
        </p:nvPicPr>
        <p:blipFill>
          <a:blip r:embed="rId1"/>
          <a:stretch/>
        </p:blipFill>
        <p:spPr>
          <a:xfrm>
            <a:off x="2411280" y="1773360"/>
            <a:ext cx="6553440" cy="43196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Калачинский (пакет красный) герб цветной с короной"/>
          <p:cNvPicPr/>
          <p:nvPr/>
        </p:nvPicPr>
        <p:blipFill>
          <a:blip r:embed="rId2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219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40000" y="50400"/>
            <a:ext cx="73836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Проект решения подготовлен в соответствии с требованиями, установленны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411280" y="2276280"/>
            <a:ext cx="6624720" cy="331308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27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i="1" lang="ru-RU" sz="2400" spc="-1" strike="noStrike">
                <a:solidFill>
                  <a:srgbClr val="0d0d0d"/>
                </a:solidFill>
                <a:latin typeface="Calibri"/>
              </a:rPr>
              <a:t>Бюджетным кодексом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d0d0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Calibri"/>
              </a:rPr>
              <a:t>Законом Омской области </a:t>
            </a:r>
            <a:r>
              <a:rPr b="0" i="1" lang="en-US" sz="2400" spc="-1" strike="noStrike">
                <a:solidFill>
                  <a:srgbClr val="0d0d0d"/>
                </a:solidFill>
                <a:latin typeface="Calibri"/>
              </a:rPr>
              <a:t>“</a:t>
            </a:r>
            <a:r>
              <a:rPr b="0" i="1" lang="ru-RU" sz="2400" spc="-1" strike="noStrike">
                <a:solidFill>
                  <a:srgbClr val="0d0d0d"/>
                </a:solidFill>
                <a:latin typeface="Calibri"/>
              </a:rPr>
              <a:t>О бюджетном процессе в Омской области</a:t>
            </a:r>
            <a:r>
              <a:rPr b="0" i="1" lang="en-US" sz="2400" spc="-1" strike="noStrike">
                <a:solidFill>
                  <a:srgbClr val="0d0d0d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d0d0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Calibri"/>
              </a:rPr>
              <a:t>Законом Омской области </a:t>
            </a:r>
            <a:r>
              <a:rPr b="0" i="1" lang="en-US" sz="2400" spc="-1" strike="noStrike">
                <a:solidFill>
                  <a:srgbClr val="0d0d0d"/>
                </a:solidFill>
                <a:latin typeface="Calibri"/>
              </a:rPr>
              <a:t>“</a:t>
            </a:r>
            <a:r>
              <a:rPr b="0" i="1" lang="ru-RU" sz="2400" spc="-1" strike="noStrike">
                <a:solidFill>
                  <a:srgbClr val="0d0d0d"/>
                </a:solidFill>
                <a:latin typeface="Calibri"/>
              </a:rPr>
              <a:t>О межбюджетных отношениях в Омской области</a:t>
            </a:r>
            <a:r>
              <a:rPr b="0" i="1" lang="en-US" sz="2400" spc="-1" strike="noStrike">
                <a:solidFill>
                  <a:srgbClr val="0d0d0d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d0d0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Calibri"/>
              </a:rPr>
              <a:t>Положением о бюджетном процессе в Калачинском муниципальном районе Ом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5" descr="Калачинский (пакет красный) герб цветной с короной"/>
          <p:cNvPicPr/>
          <p:nvPr/>
        </p:nvPicPr>
        <p:blipFill>
          <a:blip r:embed="rId1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68360" y="50760"/>
            <a:ext cx="738360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Основные характеристики районного бюджета сформированы в соответств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411280" y="2276640"/>
            <a:ext cx="6661440" cy="3024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27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-   основными направлениями бюджетной и налоговой поли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тратегическими целями развития Калачинского муниципального рай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сновными показателями прогноза социально-экономического развития рай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-   муниципальными программ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5" descr="Калачинский (пакет красный) герб цветной с короной"/>
          <p:cNvPicPr/>
          <p:nvPr/>
        </p:nvPicPr>
        <p:blipFill>
          <a:blip r:embed="rId1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144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68360" y="23400"/>
            <a:ext cx="738360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Основные характеристики бюджета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Калачинского муниципального района на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год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и на плановый период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6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и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годов в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84360" y="1989000"/>
          <a:ext cx="6264360" cy="2938680"/>
        </p:xfrm>
        <a:graphic>
          <a:graphicData uri="http://schemas.openxmlformats.org/drawingml/2006/table">
            <a:tbl>
              <a:tblPr/>
              <a:tblGrid>
                <a:gridCol w="2305080"/>
                <a:gridCol w="1295280"/>
                <a:gridCol w="1297080"/>
                <a:gridCol w="1366920"/>
              </a:tblGrid>
              <a:tr h="628920">
                <a:tc>
                  <a:txBody>
                    <a:bodyPr lIns="90000" rIns="90000" tIns="71640" bIns="46800" anchor="b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71640" bIns="46800" anchor="b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02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5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71640" bIns="46800" anchor="b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02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6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71640" bIns="46800" anchor="b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202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7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817560">
                <a:tc>
                  <a:txBody>
                    <a:bodyPr lIns="90000" rIns="90000" tIns="71640" bIns="46800" anchor="b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Доходы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муниципаль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райо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71640" bIns="46800" anchor="b">
                      <a:noAutofit/>
                    </a:bodyPr>
                    <a:p>
                      <a:pPr marL="343080" indent="-341640" algn="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1 129 62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71640" bIns="46800" anchor="b">
                      <a:noAutofit/>
                    </a:bodyPr>
                    <a:p>
                      <a:pPr marL="343080" indent="-341640" algn="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1 062 83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7164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1 055 28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825480">
                <a:tc>
                  <a:txBody>
                    <a:bodyPr lIns="90000" rIns="90000" tIns="71640" bIns="46800" anchor="b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Расходы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муниципаль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райо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71640" bIns="46800" anchor="b">
                      <a:noAutofit/>
                    </a:bodyPr>
                    <a:p>
                      <a:pPr marL="343080" indent="-341640" algn="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1 129 62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71640" bIns="46800" anchor="b">
                      <a:noAutofit/>
                    </a:bodyPr>
                    <a:p>
                      <a:pPr marL="343080" indent="-341640" algn="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1 062 83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7164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1 055 28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667440">
                <a:tc>
                  <a:txBody>
                    <a:bodyPr lIns="90000" rIns="90000" tIns="71640" bIns="46800" anchor="b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Дефицит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Microsoft YaHei"/>
                        </a:rPr>
                        <a:t>профиц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7164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7164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71640" bIns="46800" anchor="b">
                      <a:noAutofit/>
                    </a:bodyPr>
                    <a:p>
                      <a:pPr marL="343080" indent="-341640" algn="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pSp>
        <p:nvGrpSpPr>
          <p:cNvPr id="147" name="Заголовок 1"/>
          <p:cNvGrpSpPr/>
          <p:nvPr/>
        </p:nvGrpSpPr>
        <p:grpSpPr>
          <a:xfrm>
            <a:off x="2475000" y="5005440"/>
            <a:ext cx="6278400" cy="590400"/>
            <a:chOff x="2475000" y="5005440"/>
            <a:chExt cx="6278400" cy="590400"/>
          </a:xfrm>
        </p:grpSpPr>
        <p:pic>
          <p:nvPicPr>
            <p:cNvPr id="14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475000" y="5005440"/>
              <a:ext cx="627840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484360" y="5013360"/>
              <a:ext cx="62643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Бюджет сбалансиров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Рисунок 5" descr="Калачинский (пакет красный) герб цветной с короной"/>
          <p:cNvPicPr/>
          <p:nvPr/>
        </p:nvPicPr>
        <p:blipFill>
          <a:blip r:embed="rId3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151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68360" y="43920"/>
            <a:ext cx="738360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Структура доходов бюджета Калачинского муниципального района на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год и на плановый период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6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и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годов в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Объект 1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6661440" cy="46148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Калачинский (пакет красный) герб цветной с короной"/>
          <p:cNvPicPr/>
          <p:nvPr/>
        </p:nvPicPr>
        <p:blipFill>
          <a:blip r:embed="rId2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155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68360" y="33480"/>
            <a:ext cx="7383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Структура налоговых и неналоговых доходов бюджета Калачинского муниципального района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на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год и на плановый период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6 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и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годов в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627280" y="1700280"/>
          <a:ext cx="6192720" cy="4572000"/>
        </p:xfrm>
        <a:graphic>
          <a:graphicData uri="http://schemas.openxmlformats.org/drawingml/2006/table">
            <a:tbl>
              <a:tblPr/>
              <a:tblGrid>
                <a:gridCol w="3529080"/>
                <a:gridCol w="863640"/>
                <a:gridCol w="936720"/>
                <a:gridCol w="863280"/>
              </a:tblGrid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 60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38 6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31 79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Акцизы по подакцизным товарам (продукции), производимым на территории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 03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93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 74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лог, взимаемый в связи с применением упрощенной системы налогообло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34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 69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0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Единый сельскохозяйствен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 56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 7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лог, взимаемый в связи с применени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атентной сис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92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осударственная пошл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7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7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7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ходы от использования имуществ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ходящиеся в государствен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униципальной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9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9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9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Плата за негативное воздейств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а окружающую сре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 8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 8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 8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ходы от компенсации затрат госуда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2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2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2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Доходы от продажи материальных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3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3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3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Штрафы, санкции, возмещение ущер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 88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 96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 99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158" name="Рисунок 5" descr="Калачинский (пакет красный) герб цветной с короной"/>
          <p:cNvPicPr/>
          <p:nvPr/>
        </p:nvPicPr>
        <p:blipFill>
          <a:blip r:embed="rId1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159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68360" y="25560"/>
            <a:ext cx="7383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Структура налоговых и неналоговых доходов бюджета Калачинского муниципального района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на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год и на плановый период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6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и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7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годов в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Объект 1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6553440" cy="40338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Калачинский (пакет красный) герб цветной с короной"/>
          <p:cNvPicPr/>
          <p:nvPr/>
        </p:nvPicPr>
        <p:blipFill>
          <a:blip r:embed="rId2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163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68360" y="0"/>
            <a:ext cx="7383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Безвозмездные поступления в бюджет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Калачинского муниципального района на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год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и на плановый период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6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и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годов в тыс.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Объект 2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6624720" cy="41767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Калачинский (пакет красный) герб цветной с короной"/>
          <p:cNvPicPr/>
          <p:nvPr/>
        </p:nvPicPr>
        <p:blipFill>
          <a:blip r:embed="rId2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167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68360" y="43920"/>
            <a:ext cx="7383600" cy="13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Расходы бюджета Калачинского муниципального района на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год и на плановый период 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6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и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202</a:t>
            </a: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годов в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Объект 1" descr=""/>
          <p:cNvPicPr/>
          <p:nvPr/>
        </p:nvPicPr>
        <p:blipFill>
          <a:blip r:embed="rId1"/>
          <a:stretch/>
        </p:blipFill>
        <p:spPr>
          <a:xfrm>
            <a:off x="2416320" y="2552760"/>
            <a:ext cx="6697440" cy="3762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3174840" y="162864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ловно утвержденные расход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год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5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год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2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6" descr="Калачинский (пакет красный) герб цветной с короной"/>
          <p:cNvPicPr/>
          <p:nvPr/>
        </p:nvPicPr>
        <p:blipFill>
          <a:blip r:embed="rId2"/>
          <a:stretch/>
        </p:blipFill>
        <p:spPr>
          <a:xfrm>
            <a:off x="795240" y="189000"/>
            <a:ext cx="792360" cy="1176120"/>
          </a:xfrm>
          <a:prstGeom prst="rect">
            <a:avLst/>
          </a:prstGeom>
          <a:ln w="0">
            <a:noFill/>
          </a:ln>
        </p:spPr>
      </p:pic>
      <p:sp>
        <p:nvSpPr>
          <p:cNvPr id="172" name="Подзаголовок 2"/>
          <p:cNvSpPr/>
          <p:nvPr/>
        </p:nvSpPr>
        <p:spPr>
          <a:xfrm>
            <a:off x="-338040" y="2997360"/>
            <a:ext cx="306072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омитет финан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и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Калач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муницип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libri"/>
              </a:rPr>
              <a:t>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20:34:09Z</dcterms:created>
  <dc:creator>Admin</dc:creator>
  <dc:description/>
  <dc:language>en-US</dc:language>
  <cp:lastModifiedBy>Пользователь Windows</cp:lastModifiedBy>
  <dcterms:modified xsi:type="dcterms:W3CDTF">2024-11-01T03:51:16Z</dcterms:modified>
  <cp:revision>127</cp:revision>
  <dc:subject/>
  <dc:title>Название презентации</dc:title>
</cp:coreProperties>
</file>